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4FC-01EF-4274-B7B7-237017179F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F19-05EE-4EAC-9C0B-348B76ADB2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5B44F4B-3B18-4D79-A7E9-17F01E672F63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182-0CCB-4A5F-AB7E-9B4EA2D16A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791F8C8-967D-4307-B23B-7C296DA2616E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F0C7-DBCA-4E66-AE4C-B89A6F96FF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EFCFBED8-01B7-4322-B645-56729AFBB377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D6D9-8347-452C-9EA5-08B3FC52F0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3DD3263-6C90-426F-A16E-3B2E6AAA0D2C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F53B-75EA-4140-BBC4-B3B668F7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EFD147CB-3AA1-4A9F-BAD1-E6541FE58301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551B-641E-4A85-9782-3FAA072A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17C9E37-1C85-4226-8F09-361002753D6F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A66-2F3B-401D-A40A-B96273DA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5C4D4BF-20B7-4996-9E5A-1ADCF64162BB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E140-4895-4BA5-8FAB-ADB0AAB9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E749A720-6DBD-41C4-9F45-9432F49D950B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0CDF-E832-4B23-961C-CCDDB98C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F235A90-1857-4FE4-BBC7-895E216D26F7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135080" y="746280"/>
            <a:ext cx="45370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FA1-E2D2-478E-BBB0-890FBC23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283B9F5-3863-4BC7-B6EE-ED9B59FFCFE5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7E4-A140-49A1-9895-443EE0BF22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27DDE7E-95E6-4318-A363-25F3CBEEB1F2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B402-3FA8-4AB7-8F03-180EF9CC7A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204EA5B-ACD0-4C98-96E1-BC83FE65ABAA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9470-636D-4F61-B651-0013586443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F88ADE0-22C9-4F5B-A106-AB3B04BCAAA3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8A48-EE86-4F52-BE62-9B54DBF153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5D0D470-6D56-452D-9699-3EDE594B5C1F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70A-8920-418F-A71C-8C2590ED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883-4769-4069-90CE-0212F7AD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67A-6668-4620-B198-1B326127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3F1-FFD3-4D81-B765-85E9D9B4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A139-42C3-4822-94C9-C620D039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2CF5-A3F2-43F7-B976-9191AE10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E526-A4C6-44B3-8129-4C5E289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56F-352D-46C9-8347-18DE29A7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CC39-563D-416B-BC37-A35130F7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6990-113F-43DC-AAA4-E63ECE4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9FA-797C-43DA-BCBA-1D832B4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D0F-CE2B-49ED-BB36-4DBACC9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E90-F825-4F91-98BD-6229A99E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5281-134B-4F3A-93A6-9832F90C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BFAD-2DCB-499B-90CE-475BB3D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2BEC-68D0-4E64-9223-90867062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9F47-17DA-4727-96A6-76452B62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981-DB9D-4CF3-B16B-EBF3BBF7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2D7-A8F9-4F69-ADA2-5173302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59E-4D93-4F67-AF19-FD78A60C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A3B-56F4-4B02-8298-E6CCCB56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41A-B76E-41BC-AE30-32448A7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4B8-AE1B-4788-B66A-907A8CA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D1C-68CA-4239-BDA9-A8CC7A2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2F7-4E18-49B9-A3C9-239DF750F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24E5-44E8-49F2-8856-BDE4596529C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raren%20erabilera.PDF" TargetMode="External"/><Relationship Id="rId2" Type="http://schemas.openxmlformats.org/officeDocument/2006/relationships/hyperlink" Target="file:///Basamortutzea.PDF" TargetMode="External"/><Relationship Id="rId3" Type="http://schemas.openxmlformats.org/officeDocument/2006/relationships/hyperlink" Target="file:///Espeziak%20sailkatzen.PD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IZKUNTZA-KOMUNIKAZIORAKO GAITASU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IGARREN HEZKUNTZAK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2. MAI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85"/>
          <p:cNvGrpSpPr/>
          <p:nvPr/>
        </p:nvGrpSpPr>
        <p:grpSpPr>
          <a:xfrm>
            <a:off x="755640" y="3500280"/>
            <a:ext cx="3886200" cy="2666880"/>
            <a:chOff x="755640" y="3500280"/>
            <a:chExt cx="3886200" cy="2666880"/>
          </a:xfrm>
        </p:grpSpPr>
        <p:sp>
          <p:nvSpPr>
            <p:cNvPr id="290" name="Text Box 59"/>
            <p:cNvSpPr/>
            <p:nvPr/>
          </p:nvSpPr>
          <p:spPr>
            <a:xfrm>
              <a:off x="755640" y="4033800"/>
              <a:ext cx="3886200" cy="2133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zentzu orokorra uler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gaia inferi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funtsezko edukia laburbil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deia nagusiak eta bigarren mailakoak bereizten ditu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egitura orokorra berreraiki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deien arteko erlazio logikoak antzema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AutoShape 68"/>
            <p:cNvSpPr/>
            <p:nvPr/>
          </p:nvSpPr>
          <p:spPr>
            <a:xfrm>
              <a:off x="1288800" y="35002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" name="Group 86"/>
          <p:cNvGrpSpPr/>
          <p:nvPr/>
        </p:nvGrpSpPr>
        <p:grpSpPr>
          <a:xfrm>
            <a:off x="0" y="0"/>
            <a:ext cx="9144000" cy="6316560"/>
            <a:chOff x="0" y="0"/>
            <a:chExt cx="9144000" cy="6316560"/>
          </a:xfrm>
        </p:grpSpPr>
        <p:sp>
          <p:nvSpPr>
            <p:cNvPr id="303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4" name="Group 81"/>
            <p:cNvGrpSpPr/>
            <p:nvPr/>
          </p:nvGrpSpPr>
          <p:grpSpPr>
            <a:xfrm>
              <a:off x="2057400" y="990720"/>
              <a:ext cx="6696000" cy="5325840"/>
              <a:chOff x="2057400" y="990720"/>
              <a:chExt cx="6696000" cy="5325840"/>
            </a:xfrm>
          </p:grpSpPr>
          <p:sp>
            <p:nvSpPr>
              <p:cNvPr id="305" name="Text Box 47"/>
              <p:cNvSpPr/>
              <p:nvPr/>
            </p:nvSpPr>
            <p:spPr>
              <a:xfrm>
                <a:off x="2057400" y="990720"/>
                <a:ext cx="5029200" cy="520560"/>
              </a:xfrm>
              <a:prstGeom prst="rect">
                <a:avLst/>
              </a:prstGeom>
              <a:noFill/>
              <a:ln w="28440">
                <a:solidFill>
                  <a:srgbClr val="6f68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800" spc="-1" strike="noStrike">
                    <a:solidFill>
                      <a:srgbClr val="6f6823"/>
                    </a:solidFill>
                    <a:latin typeface="Comic Sans MS"/>
                  </a:rPr>
                  <a:t>Hizkuntza komunikazio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06" name="Picture 80" descr="D:\00-AlfonsoC\ISEI-IVEI\Prestakuntza\2007ko Udako ikastaroa EHUan\Irudiak\Ikasleak\scuola_elem.jpg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4191120"/>
                <a:ext cx="2962080" cy="212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308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309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ULE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4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315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1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59"/>
          <p:cNvSpPr/>
          <p:nvPr/>
        </p:nvSpPr>
        <p:spPr>
          <a:xfrm>
            <a:off x="1295280" y="3886200"/>
            <a:ext cx="3886200" cy="2133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L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xede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zagutza linguistikoak erabiltzen ditu testuaren xedea interpretatzeko laguntza gis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gorlearen asmo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a eta iritzia bereiz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rabilitako hizkuntza-aldaera antz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generoa antz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AutoShape 68"/>
          <p:cNvSpPr/>
          <p:nvPr/>
        </p:nvSpPr>
        <p:spPr>
          <a:xfrm>
            <a:off x="2514600" y="34290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33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34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9"/>
          <p:cNvSpPr/>
          <p:nvPr/>
        </p:nvSpPr>
        <p:spPr>
          <a:xfrm>
            <a:off x="2133720" y="3962520"/>
            <a:ext cx="3886200" cy="2361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 berria bereiz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Lortu nahi den helbururako garrantzizkoa den informazio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Berariazko informazioa antzematen et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Jasotako informazioa lortu nahi den helbururako erabil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a fitxetan edo datu-bilketarako beste sistema batzuetan erregistr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utoShape 68"/>
          <p:cNvSpPr/>
          <p:nvPr/>
        </p:nvSpPr>
        <p:spPr>
          <a:xfrm>
            <a:off x="434340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36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37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8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9"/>
          <p:cNvSpPr/>
          <p:nvPr/>
        </p:nvSpPr>
        <p:spPr>
          <a:xfrm>
            <a:off x="4114800" y="3962520"/>
            <a:ext cx="38862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estuaren edukia berak dituen ezagutzen argitan interpret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Testuaren osagai ez-linguistikoen esanahia interpret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Testuaren edukiari buruz inferentziak egi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tik abiatuta bere iritzia 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Diskriminaziozko esaerak identifik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AutoShape 68"/>
          <p:cNvSpPr/>
          <p:nvPr/>
        </p:nvSpPr>
        <p:spPr>
          <a:xfrm>
            <a:off x="601992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39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40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1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9"/>
          <p:cNvSpPr/>
          <p:nvPr/>
        </p:nvSpPr>
        <p:spPr>
          <a:xfrm>
            <a:off x="4800600" y="3962520"/>
            <a:ext cx="38862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aurrea hartzen d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buruz inferentziak egi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ean arazoak antzema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ean arazoak konpontzeko estrategi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a hobetzeko beste hizkuntza batzuetako ezagutz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8"/>
          <p:cNvSpPr/>
          <p:nvPr/>
        </p:nvSpPr>
        <p:spPr>
          <a:xfrm>
            <a:off x="754380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42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43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4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85"/>
          <p:cNvGrpSpPr/>
          <p:nvPr/>
        </p:nvGrpSpPr>
        <p:grpSpPr>
          <a:xfrm>
            <a:off x="755640" y="3500280"/>
            <a:ext cx="3886200" cy="2666880"/>
            <a:chOff x="755640" y="3500280"/>
            <a:chExt cx="3886200" cy="2666880"/>
          </a:xfrm>
        </p:grpSpPr>
        <p:sp>
          <p:nvSpPr>
            <p:cNvPr id="445" name="Text Box 59"/>
            <p:cNvSpPr/>
            <p:nvPr/>
          </p:nvSpPr>
          <p:spPr>
            <a:xfrm>
              <a:off x="755640" y="4033800"/>
              <a:ext cx="3886200" cy="2133360"/>
            </a:xfrm>
            <a:prstGeom prst="rect">
              <a:avLst/>
            </a:pr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Hartzailearen interesak eta ezagutzak kontuan iza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Xedeari begira egokia den testu-generoa haut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Hizkuntza-aldaera egokia hautatzen du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rregistro egokia haut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ulergarri egiteko azalpen-prozedurak hauta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AutoShape 68"/>
            <p:cNvSpPr/>
            <p:nvPr/>
          </p:nvSpPr>
          <p:spPr>
            <a:xfrm>
              <a:off x="1288800" y="35002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5" name="Group 86"/>
          <p:cNvGrpSpPr/>
          <p:nvPr/>
        </p:nvGrpSpPr>
        <p:grpSpPr>
          <a:xfrm>
            <a:off x="0" y="0"/>
            <a:ext cx="9144000" cy="6316560"/>
            <a:chOff x="0" y="0"/>
            <a:chExt cx="9144000" cy="6316560"/>
          </a:xfrm>
        </p:grpSpPr>
        <p:sp>
          <p:nvSpPr>
            <p:cNvPr id="456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7" name="Group 81"/>
            <p:cNvGrpSpPr/>
            <p:nvPr/>
          </p:nvGrpSpPr>
          <p:grpSpPr>
            <a:xfrm>
              <a:off x="2057400" y="990720"/>
              <a:ext cx="6696000" cy="5325840"/>
              <a:chOff x="2057400" y="990720"/>
              <a:chExt cx="6696000" cy="5325840"/>
            </a:xfrm>
          </p:grpSpPr>
          <p:sp>
            <p:nvSpPr>
              <p:cNvPr id="458" name="Text Box 47"/>
              <p:cNvSpPr/>
              <p:nvPr/>
            </p:nvSpPr>
            <p:spPr>
              <a:xfrm>
                <a:off x="2057400" y="990720"/>
                <a:ext cx="5029200" cy="520560"/>
              </a:xfrm>
              <a:prstGeom prst="rect">
                <a:avLst/>
              </a:prstGeom>
              <a:noFill/>
              <a:ln w="28440">
                <a:solidFill>
                  <a:srgbClr val="6f68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800" spc="-1" strike="noStrike">
                    <a:solidFill>
                      <a:srgbClr val="6f6823"/>
                    </a:solidFill>
                    <a:latin typeface="Comic Sans MS"/>
                  </a:rPr>
                  <a:t>Hizkuntza komunikazio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59" name="Picture 80" descr="D:\00-AlfonsoC\ISEI-IVEI\Prestakuntza\2007ko Udako ikastaroa EHUan\Irudiak\Ikasleak\scuola_elem.jpg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4191120"/>
                <a:ext cx="2962080" cy="212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0" name="Group 83" descr=""/>
          <p:cNvPicPr/>
          <p:nvPr/>
        </p:nvPicPr>
        <p:blipFill>
          <a:blip r:embed="rId2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461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85"/>
          <p:cNvGrpSpPr/>
          <p:nvPr/>
        </p:nvGrpSpPr>
        <p:grpSpPr>
          <a:xfrm>
            <a:off x="2057400" y="3505320"/>
            <a:ext cx="3886200" cy="2666880"/>
            <a:chOff x="2057400" y="3505320"/>
            <a:chExt cx="3886200" cy="2666880"/>
          </a:xfrm>
        </p:grpSpPr>
        <p:sp>
          <p:nvSpPr>
            <p:cNvPr id="464" name="Text Box 59"/>
            <p:cNvSpPr/>
            <p:nvPr/>
          </p:nvSpPr>
          <p:spPr>
            <a:xfrm>
              <a:off x="2057400" y="4038840"/>
              <a:ext cx="3886200" cy="2133360"/>
            </a:xfrm>
            <a:prstGeom prst="rect">
              <a:avLst/>
            </a:pr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hainbat iturri eta euskarritan bil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Lortu nahi den helbururako garrantzizko informazioa haut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biltzeko teknikak erabil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dukia planifikatzen eta egituratzen du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AutoShape 68"/>
            <p:cNvSpPr/>
            <p:nvPr/>
          </p:nvSpPr>
          <p:spPr>
            <a:xfrm>
              <a:off x="2590560" y="350532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Group 86"/>
          <p:cNvGrpSpPr/>
          <p:nvPr/>
        </p:nvGrpSpPr>
        <p:grpSpPr>
          <a:xfrm>
            <a:off x="0" y="0"/>
            <a:ext cx="9144000" cy="1511280"/>
            <a:chOff x="0" y="0"/>
            <a:chExt cx="9144000" cy="1511280"/>
          </a:xfrm>
        </p:grpSpPr>
        <p:sp>
          <p:nvSpPr>
            <p:cNvPr id="475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47"/>
            <p:cNvSpPr/>
            <p:nvPr/>
          </p:nvSpPr>
          <p:spPr>
            <a:xfrm>
              <a:off x="2057400" y="99072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77" name="Group 8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478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85"/>
          <p:cNvGrpSpPr/>
          <p:nvPr/>
        </p:nvGrpSpPr>
        <p:grpSpPr>
          <a:xfrm>
            <a:off x="3657600" y="3505320"/>
            <a:ext cx="4419360" cy="3123720"/>
            <a:chOff x="3657600" y="3505320"/>
            <a:chExt cx="4419360" cy="3123720"/>
          </a:xfrm>
        </p:grpSpPr>
        <p:sp>
          <p:nvSpPr>
            <p:cNvPr id="481" name="Text Box 59"/>
            <p:cNvSpPr/>
            <p:nvPr/>
          </p:nvSpPr>
          <p:spPr>
            <a:xfrm>
              <a:off x="3657600" y="4130280"/>
              <a:ext cx="4419360" cy="2498760"/>
            </a:xfrm>
            <a:prstGeom prst="rect">
              <a:avLst/>
            </a:pr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-generoaren ezaugarriak errespeta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nuntziatuak modu bateratuan uztar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komunikazio-eraginkortasuna hobetzeko estrategiak erabil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Arau gramatikal, lexiko eta ortografikoak errespeta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Askotariko hizkuntza-baliabideak erabiltzen ditu: sintaktikoak, lexikoak...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 berrikusteko interesa ager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Diskriminaziozko esaerak erabiltzea saihes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 egoki eta zuzen aurkez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AutoShape 68"/>
            <p:cNvSpPr/>
            <p:nvPr/>
          </p:nvSpPr>
          <p:spPr>
            <a:xfrm>
              <a:off x="4263840" y="3505320"/>
              <a:ext cx="173520" cy="535320"/>
            </a:xfrm>
            <a:prstGeom prst="downArrow">
              <a:avLst>
                <a:gd name="adj1" fmla="val 50000"/>
                <a:gd name="adj2" fmla="val 77127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86"/>
          <p:cNvGrpSpPr/>
          <p:nvPr/>
        </p:nvGrpSpPr>
        <p:grpSpPr>
          <a:xfrm>
            <a:off x="0" y="0"/>
            <a:ext cx="9144000" cy="1511280"/>
            <a:chOff x="0" y="0"/>
            <a:chExt cx="9144000" cy="1511280"/>
          </a:xfrm>
        </p:grpSpPr>
        <p:sp>
          <p:nvSpPr>
            <p:cNvPr id="492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47"/>
            <p:cNvSpPr/>
            <p:nvPr/>
          </p:nvSpPr>
          <p:spPr>
            <a:xfrm>
              <a:off x="2057400" y="99072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4" name="Group 8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495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59"/>
          <p:cNvSpPr/>
          <p:nvPr/>
        </p:nvSpPr>
        <p:spPr>
          <a:xfrm>
            <a:off x="4419720" y="4114800"/>
            <a:ext cx="3962160" cy="207324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Autoebaluazio-estrategi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rabakiak hartzeko orduan iniziatiba ager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 ekoizteko prozesuan zailtasunak antzematen eta konpon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AutoShape 68"/>
          <p:cNvSpPr/>
          <p:nvPr/>
        </p:nvSpPr>
        <p:spPr>
          <a:xfrm>
            <a:off x="5943600" y="3657600"/>
            <a:ext cx="155520" cy="444600"/>
          </a:xfrm>
          <a:prstGeom prst="downArrow">
            <a:avLst>
              <a:gd name="adj1" fmla="val 50000"/>
              <a:gd name="adj2" fmla="val 75017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7" name="Group 86"/>
          <p:cNvGrpSpPr/>
          <p:nvPr/>
        </p:nvGrpSpPr>
        <p:grpSpPr>
          <a:xfrm>
            <a:off x="0" y="0"/>
            <a:ext cx="9144000" cy="1511280"/>
            <a:chOff x="0" y="0"/>
            <a:chExt cx="9144000" cy="1511280"/>
          </a:xfrm>
        </p:grpSpPr>
        <p:sp>
          <p:nvSpPr>
            <p:cNvPr id="508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Text Box 47"/>
            <p:cNvSpPr/>
            <p:nvPr/>
          </p:nvSpPr>
          <p:spPr>
            <a:xfrm>
              <a:off x="2057400" y="99072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0" name="Group 8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511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56"/>
          <p:cNvSpPr/>
          <p:nvPr/>
        </p:nvSpPr>
        <p:spPr>
          <a:xfrm>
            <a:off x="5410080" y="2666880"/>
            <a:ext cx="1729080" cy="101124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74320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Gràci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304812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¡Gracia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971640" y="40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urier New"/>
              </a:rPr>
              <a:t>Merci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468360" y="228600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urier New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205740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f01"/>
                </a:solidFill>
                <a:latin typeface="Courier New"/>
              </a:rPr>
              <a:t>Obrigad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5562720"/>
            <a:ext cx="7543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06ingelesa@berritzeguneak.n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3184560" y="76212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4474800" y="1333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e4a8"/>
                </a:solidFill>
                <a:latin typeface="Courier New"/>
              </a:rPr>
              <a:t>Bedank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2819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urier New"/>
              </a:rPr>
              <a:t>¡Graci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486400" y="36576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ahoma"/>
              </a:rPr>
              <a:t>¡</a:t>
            </a:r>
            <a:r>
              <a:rPr b="1" lang="es-ES" sz="2800" spc="-1" strike="noStrike">
                <a:solidFill>
                  <a:srgbClr val="006600"/>
                </a:solidFill>
                <a:latin typeface="Courier New"/>
              </a:rPr>
              <a:t>Eskerrik ask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46E-9095-4DA8-9250-C969771F2A0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BIBLIOGRAFIA:</a:t>
            </a:r>
            <a:br>
              <a:rPr sz="4000"/>
            </a:b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http://www.ediagnostikoak.net/ediag/eus/indexeus.ht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13216" t="23187" r="7372" b="41630"/>
          <a:stretch/>
        </p:blipFill>
        <p:spPr>
          <a:xfrm>
            <a:off x="1371600" y="2666880"/>
            <a:ext cx="6172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333399"/>
                </a:solidFill>
                <a:latin typeface="Tahoma"/>
              </a:rPr>
              <a:t>HIZKUNTZA-KOMUNIKAZIORAKO GAITASUNA: Deskribapen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Hizkuntza-komunikaziorako gaitasuna </a:t>
            </a:r>
            <a:r>
              <a:rPr b="1" lang="eu-ES" sz="2800" spc="-1" strike="noStrike">
                <a:solidFill>
                  <a:srgbClr val="ff0000"/>
                </a:solidFill>
                <a:latin typeface="Tahoma"/>
              </a:rPr>
              <a:t>hizkuntza erabiltzeko trebetasuna</a:t>
            </a: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 da, hau da, kontzeptuak, sentimenduak, gertakariak eta iritziak </a:t>
            </a:r>
            <a:r>
              <a:rPr b="1" lang="eu-ES" sz="2800" spc="-1" strike="noStrike">
                <a:solidFill>
                  <a:srgbClr val="ff0000"/>
                </a:solidFill>
                <a:latin typeface="Tahoma"/>
              </a:rPr>
              <a:t>ahozko eta idatzizko diskurtsoen bidez adierazi eta interpretatzekoa</a:t>
            </a: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 eta </a:t>
            </a:r>
            <a:r>
              <a:rPr b="1" lang="eu-ES" sz="2800" spc="-1" strike="noStrike">
                <a:solidFill>
                  <a:srgbClr val="ff0000"/>
                </a:solidFill>
                <a:latin typeface="Tahoma"/>
              </a:rPr>
              <a:t>gizarte- zein kultura-ingurune guztietan</a:t>
            </a: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 linguistikoki elkarreragitekoa.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5"/>
          <p:cNvGrpSpPr/>
          <p:nvPr/>
        </p:nvGrpSpPr>
        <p:grpSpPr>
          <a:xfrm>
            <a:off x="304920" y="1295280"/>
            <a:ext cx="8381520" cy="4262760"/>
            <a:chOff x="304920" y="1295280"/>
            <a:chExt cx="8381520" cy="426276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4560" y="1700280"/>
              <a:ext cx="853200" cy="345204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 rot="16200000">
              <a:off x="4931640" y="2563200"/>
              <a:ext cx="853200" cy="172620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V="1">
              <a:off x="4495680" y="2999880"/>
              <a:ext cx="2160" cy="85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1"/>
            <p:cNvCxnSpPr>
              <a:stCxn id="121" idx="0"/>
              <a:endCxn id="115" idx="2"/>
            </p:cNvCxnSpPr>
            <p:nvPr/>
          </p:nvCxnSpPr>
          <p:spPr>
            <a:xfrm flipH="1" flipV="1" rot="5400000">
              <a:off x="3205800" y="2563200"/>
              <a:ext cx="853200" cy="172620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32"/>
            <p:cNvCxnSpPr>
              <a:stCxn id="123" idx="0"/>
              <a:endCxn id="115" idx="2"/>
            </p:cNvCxnSpPr>
            <p:nvPr/>
          </p:nvCxnSpPr>
          <p:spPr>
            <a:xfrm flipH="1" flipV="1" rot="5400000">
              <a:off x="2343240" y="1700280"/>
              <a:ext cx="853200" cy="345204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3"/>
            <p:cNvSpPr/>
            <p:nvPr/>
          </p:nvSpPr>
          <p:spPr>
            <a:xfrm>
              <a:off x="3756240" y="12952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IMENTSIO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>
              <a:off x="30492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HOZKOARE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ULER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203040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IDATZIARE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LER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6"/>
            <p:cNvSpPr/>
            <p:nvPr/>
          </p:nvSpPr>
          <p:spPr>
            <a:xfrm>
              <a:off x="375624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INTZA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548172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IDAZ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_s1038"/>
            <p:cNvSpPr/>
            <p:nvPr/>
          </p:nvSpPr>
          <p:spPr>
            <a:xfrm>
              <a:off x="720756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HOZK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LKARREKINTZ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143000" y="609480"/>
            <a:ext cx="693432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ZKUNTZA KOMUNIKAZIORAKO KONPETENTZ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9907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85"/>
          <p:cNvGrpSpPr/>
          <p:nvPr/>
        </p:nvGrpSpPr>
        <p:grpSpPr>
          <a:xfrm>
            <a:off x="755640" y="3500280"/>
            <a:ext cx="3886200" cy="2666880"/>
            <a:chOff x="755640" y="3500280"/>
            <a:chExt cx="3886200" cy="2666880"/>
          </a:xfrm>
        </p:grpSpPr>
        <p:sp>
          <p:nvSpPr>
            <p:cNvPr id="127" name="Text Box 59"/>
            <p:cNvSpPr/>
            <p:nvPr/>
          </p:nvSpPr>
          <p:spPr>
            <a:xfrm>
              <a:off x="755640" y="4033800"/>
              <a:ext cx="388620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zentzu orokorra uler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gaia inferi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nformazio-edukia laburbil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deia nagusiak bereiz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deia nagusiak eta bigarren mailakoak bereiz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atalen arteko erlazio logikoak antzema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AutoShape 68"/>
            <p:cNvSpPr/>
            <p:nvPr/>
          </p:nvSpPr>
          <p:spPr>
            <a:xfrm>
              <a:off x="1288800" y="35002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86"/>
          <p:cNvGrpSpPr/>
          <p:nvPr/>
        </p:nvGrpSpPr>
        <p:grpSpPr>
          <a:xfrm>
            <a:off x="0" y="0"/>
            <a:ext cx="9144000" cy="6316560"/>
            <a:chOff x="0" y="0"/>
            <a:chExt cx="9144000" cy="6316560"/>
          </a:xfrm>
        </p:grpSpPr>
        <p:sp>
          <p:nvSpPr>
            <p:cNvPr id="140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" name="Group 81"/>
            <p:cNvGrpSpPr/>
            <p:nvPr/>
          </p:nvGrpSpPr>
          <p:grpSpPr>
            <a:xfrm>
              <a:off x="2057400" y="990720"/>
              <a:ext cx="6696000" cy="5325840"/>
              <a:chOff x="2057400" y="990720"/>
              <a:chExt cx="6696000" cy="5325840"/>
            </a:xfrm>
          </p:grpSpPr>
          <p:sp>
            <p:nvSpPr>
              <p:cNvPr id="142" name="Text Box 47"/>
              <p:cNvSpPr/>
              <p:nvPr/>
            </p:nvSpPr>
            <p:spPr>
              <a:xfrm>
                <a:off x="2057400" y="990720"/>
                <a:ext cx="5029200" cy="520560"/>
              </a:xfrm>
              <a:prstGeom prst="rect">
                <a:avLst/>
              </a:prstGeom>
              <a:noFill/>
              <a:ln w="28440">
                <a:solidFill>
                  <a:srgbClr val="6f68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800" spc="-1" strike="noStrike">
                    <a:solidFill>
                      <a:srgbClr val="6f6823"/>
                    </a:solidFill>
                    <a:latin typeface="Comic Sans MS"/>
                  </a:rPr>
                  <a:t>Hizkuntza komunikazio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43" name="Picture 80" descr="D:\00-AlfonsoC\ISEI-IVEI\Prestakuntza\2007ko Udako ikastaroa EHUan\Irudiak\Ikasleak\scuola_elem.jpg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4191120"/>
                <a:ext cx="2962080" cy="212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145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146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1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152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8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85"/>
          <p:cNvGrpSpPr/>
          <p:nvPr/>
        </p:nvGrpSpPr>
        <p:grpSpPr>
          <a:xfrm>
            <a:off x="1981080" y="3505320"/>
            <a:ext cx="3886200" cy="2666880"/>
            <a:chOff x="1981080" y="3505320"/>
            <a:chExt cx="3886200" cy="2666880"/>
          </a:xfrm>
        </p:grpSpPr>
        <p:sp>
          <p:nvSpPr>
            <p:cNvPr id="162" name="Text Box 59"/>
            <p:cNvSpPr/>
            <p:nvPr/>
          </p:nvSpPr>
          <p:spPr>
            <a:xfrm>
              <a:off x="1981080" y="4038840"/>
              <a:ext cx="388620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xede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zagutza linguistikoak erabiltzen ditu testuaren xedea interpretatzeko laguntza gisa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gorlearen asmo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eta iritzia bereiz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rabilitako hizkuntza-aldaer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generoa antzema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AutoShape 68"/>
            <p:cNvSpPr/>
            <p:nvPr/>
          </p:nvSpPr>
          <p:spPr>
            <a:xfrm>
              <a:off x="2514240" y="350532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2209680" y="914400"/>
            <a:ext cx="6696000" cy="5325840"/>
            <a:chOff x="2209680" y="914400"/>
            <a:chExt cx="6696000" cy="5325840"/>
          </a:xfrm>
        </p:grpSpPr>
        <p:sp>
          <p:nvSpPr>
            <p:cNvPr id="176" name="Text Box 47"/>
            <p:cNvSpPr/>
            <p:nvPr/>
          </p:nvSpPr>
          <p:spPr>
            <a:xfrm>
              <a:off x="2209680" y="91440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77" name="Picture 80" descr="D:\00-AlfonsoC\ISEI-IVEI\Prestakuntza\2007ko Udako ikastaroa EHUan\Irudiak\Ikasleak\scuola_elem.jpg"/>
            <p:cNvPicPr/>
            <p:nvPr/>
          </p:nvPicPr>
          <p:blipFill>
            <a:blip r:embed="rId1"/>
            <a:stretch/>
          </p:blipFill>
          <p:spPr>
            <a:xfrm>
              <a:off x="5943600" y="4114800"/>
              <a:ext cx="2962080" cy="21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83"/>
          <p:cNvGrpSpPr/>
          <p:nvPr/>
        </p:nvGrpSpPr>
        <p:grpSpPr>
          <a:xfrm>
            <a:off x="533520" y="1523520"/>
            <a:ext cx="8338320" cy="913680"/>
            <a:chOff x="533520" y="1523520"/>
            <a:chExt cx="8338320" cy="913680"/>
          </a:xfrm>
        </p:grpSpPr>
        <p:grpSp>
          <p:nvGrpSpPr>
            <p:cNvPr id="179" name="Group 78"/>
            <p:cNvGrpSpPr/>
            <p:nvPr/>
          </p:nvGrpSpPr>
          <p:grpSpPr>
            <a:xfrm>
              <a:off x="533520" y="1716480"/>
              <a:ext cx="8338320" cy="720720"/>
              <a:chOff x="533520" y="1716480"/>
              <a:chExt cx="8338320" cy="720720"/>
            </a:xfrm>
          </p:grpSpPr>
          <p:sp>
            <p:nvSpPr>
              <p:cNvPr id="180" name="Text Box 49"/>
              <p:cNvSpPr/>
              <p:nvPr/>
            </p:nvSpPr>
            <p:spPr>
              <a:xfrm>
                <a:off x="533520" y="2004840"/>
                <a:ext cx="1396800" cy="432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Text Box 50"/>
              <p:cNvSpPr/>
              <p:nvPr/>
            </p:nvSpPr>
            <p:spPr>
              <a:xfrm>
                <a:off x="2008080" y="2004840"/>
                <a:ext cx="170712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Text Box 51"/>
              <p:cNvSpPr/>
              <p:nvPr/>
            </p:nvSpPr>
            <p:spPr>
              <a:xfrm>
                <a:off x="3792960" y="2004840"/>
                <a:ext cx="178488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Text Box 52"/>
              <p:cNvSpPr/>
              <p:nvPr/>
            </p:nvSpPr>
            <p:spPr>
              <a:xfrm>
                <a:off x="5655960" y="2004840"/>
                <a:ext cx="139680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Text Box 53"/>
              <p:cNvSpPr/>
              <p:nvPr/>
            </p:nvSpPr>
            <p:spPr>
              <a:xfrm>
                <a:off x="7130520" y="2004840"/>
                <a:ext cx="174132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5" name="Group 67"/>
              <p:cNvGrpSpPr/>
              <p:nvPr/>
            </p:nvGrpSpPr>
            <p:grpSpPr>
              <a:xfrm>
                <a:off x="1231560" y="1716480"/>
                <a:ext cx="6674400" cy="288000"/>
                <a:chOff x="1231560" y="1716480"/>
                <a:chExt cx="6674400" cy="288000"/>
              </a:xfrm>
            </p:grpSpPr>
            <p:sp>
              <p:nvSpPr>
                <p:cNvPr id="186" name="Line 61"/>
                <p:cNvSpPr/>
                <p:nvPr/>
              </p:nvSpPr>
              <p:spPr>
                <a:xfrm flipH="1">
                  <a:off x="1231560" y="1716480"/>
                  <a:ext cx="667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62"/>
                <p:cNvSpPr/>
                <p:nvPr/>
              </p:nvSpPr>
              <p:spPr>
                <a:xfrm>
                  <a:off x="790596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63"/>
                <p:cNvSpPr/>
                <p:nvPr/>
              </p:nvSpPr>
              <p:spPr>
                <a:xfrm>
                  <a:off x="635400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64"/>
                <p:cNvSpPr/>
                <p:nvPr/>
              </p:nvSpPr>
              <p:spPr>
                <a:xfrm>
                  <a:off x="464652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65"/>
                <p:cNvSpPr/>
                <p:nvPr/>
              </p:nvSpPr>
              <p:spPr>
                <a:xfrm>
                  <a:off x="293940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66"/>
                <p:cNvSpPr/>
                <p:nvPr/>
              </p:nvSpPr>
              <p:spPr>
                <a:xfrm>
                  <a:off x="123192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2" name="Line 82"/>
            <p:cNvSpPr/>
            <p:nvPr/>
          </p:nvSpPr>
          <p:spPr>
            <a:xfrm flipV="1">
              <a:off x="4646880" y="152352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5"/>
          <p:cNvGrpSpPr/>
          <p:nvPr/>
        </p:nvGrpSpPr>
        <p:grpSpPr>
          <a:xfrm>
            <a:off x="3809880" y="3505320"/>
            <a:ext cx="3886200" cy="2666880"/>
            <a:chOff x="3809880" y="3505320"/>
            <a:chExt cx="3886200" cy="2666880"/>
          </a:xfrm>
        </p:grpSpPr>
        <p:sp>
          <p:nvSpPr>
            <p:cNvPr id="196" name="Text Box 59"/>
            <p:cNvSpPr/>
            <p:nvPr/>
          </p:nvSpPr>
          <p:spPr>
            <a:xfrm>
              <a:off x="3809880" y="4038840"/>
              <a:ext cx="388620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 berria bereiz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Lortu nahi den helbururako garrantzizkoa den informazio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Berariazko informazioa antzematen et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Jasotako informazioa lortu nahi den helbururako erabil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AutoShape 68"/>
            <p:cNvSpPr/>
            <p:nvPr/>
          </p:nvSpPr>
          <p:spPr>
            <a:xfrm>
              <a:off x="4343040" y="350532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Text Box 54"/>
          <p:cNvSpPr/>
          <p:nvPr/>
        </p:nvSpPr>
        <p:spPr>
          <a:xfrm>
            <a:off x="457200" y="2666880"/>
            <a:ext cx="15843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2133720" y="2666880"/>
            <a:ext cx="13986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209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210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5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216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2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-22860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18288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9"/>
          <p:cNvSpPr/>
          <p:nvPr/>
        </p:nvSpPr>
        <p:spPr>
          <a:xfrm>
            <a:off x="3809880" y="4038480"/>
            <a:ext cx="38862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 berak dituen ezagutzen argitan interpret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osagai ez-linguistikoen esanahia interpret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buruz inferentziak egi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Diskriminaziozko esaerak identifik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tik abiatuta bere iritzia 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4"/>
          <p:cNvSpPr/>
          <p:nvPr/>
        </p:nvSpPr>
        <p:spPr>
          <a:xfrm>
            <a:off x="457200" y="2666880"/>
            <a:ext cx="15843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55"/>
          <p:cNvSpPr/>
          <p:nvPr/>
        </p:nvSpPr>
        <p:spPr>
          <a:xfrm>
            <a:off x="2133720" y="2666880"/>
            <a:ext cx="13986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239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240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5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246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2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3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5"/>
          <p:cNvSpPr/>
          <p:nvPr/>
        </p:nvSpPr>
        <p:spPr>
          <a:xfrm>
            <a:off x="-22860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18288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68"/>
          <p:cNvSpPr/>
          <p:nvPr/>
        </p:nvSpPr>
        <p:spPr>
          <a:xfrm>
            <a:off x="6019920" y="35812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9"/>
          <p:cNvSpPr/>
          <p:nvPr/>
        </p:nvSpPr>
        <p:spPr>
          <a:xfrm>
            <a:off x="5029200" y="3962520"/>
            <a:ext cx="38862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ntzute aktiboa egi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aurrea hartzen d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a atxikitzeko askotariko erregistro-baliabide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a hobetzeko beste hizkuntza batzuetako ezagutz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457200" y="2666880"/>
            <a:ext cx="15843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2133720" y="2666880"/>
            <a:ext cx="13986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270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271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6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277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3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4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-22860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18288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68"/>
          <p:cNvSpPr/>
          <p:nvPr/>
        </p:nvSpPr>
        <p:spPr>
          <a:xfrm>
            <a:off x="777240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015257AA</cp:lastModifiedBy>
  <dcterms:modified xsi:type="dcterms:W3CDTF">2009-02-17T12:48:35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